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5.png" ContentType="image/png"/>
  <Override PartName="/ppt/media/image43.jpeg" ContentType="image/jpeg"/>
  <Override PartName="/ppt/media/image42.png" ContentType="image/png"/>
  <Override PartName="/ppt/media/click.wav" ContentType="audio/x-wav"/>
  <Override PartName="/ppt/media/image41.jpeg" ContentType="image/jpeg"/>
  <Override PartName="/ppt/media/image44.png" ContentType="image/png"/>
  <Override PartName="/ppt/media/image46.png" ContentType="image/png"/>
  <Override PartName="/ppt/media/image33.png" ContentType="image/png"/>
  <Override PartName="/ppt/media/image45.png" ContentType="image/png"/>
  <Override PartName="/ppt/media/image51.jpeg" ContentType="image/jpeg"/>
  <Override PartName="/ppt/media/image40.png" ContentType="image/png"/>
  <Override PartName="/ppt/media/image8.png" ContentType="image/png"/>
  <Override PartName="/ppt/media/image38.png" ContentType="image/png"/>
  <Override PartName="/ppt/media/image52.png" ContentType="image/png"/>
  <Override PartName="/ppt/media/image53.png" ContentType="image/png"/>
  <Override PartName="/ppt/media/image31.png" ContentType="image/png"/>
  <Override PartName="/ppt/media/image29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7FD-B98B-487E-B8CE-FBC9E7F6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8F5-15F4-4E06-8D0A-4E80753A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DA4E-E998-4896-B5F3-D6CBA82D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116-EA19-4D01-A41D-8553BA1E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A8D-2322-46F5-BE99-F5C5F775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E7A-6143-472B-A757-47535A6D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2FA-DDFB-4C69-B169-EE0B1D04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CBD-1A7A-4B49-AF4E-2CB8E699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F8B-B983-4455-8068-840D338A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892-046B-42BB-9250-8B71D8C3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6DE-CA13-452D-AEB9-C26855C7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8DA-D4E7-481A-995E-042D4C75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570D-EB7D-4E19-9BAB-258E240010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sim.donanimhaber.com/upfiles/2619/A898D9BF2553483990571C2EA6B2B0A8.jpg" TargetMode="External"/><Relationship Id="rId3" Type="http://schemas.openxmlformats.org/officeDocument/2006/relationships/hyperlink" Target="http://pics.lj.ivanovo.ru/uploads8/8SxG6ZAbu8jJvWGhohqd/firefox.jpg" TargetMode="External"/><Relationship Id="rId4" Type="http://schemas.openxmlformats.org/officeDocument/2006/relationships/hyperlink" Target="http://www.deti-o-detyah.ru/images/stories/2014/kak-vybrat-plastilin.jpg" TargetMode="External"/><Relationship Id="rId5" Type="http://schemas.openxmlformats.org/officeDocument/2006/relationships/hyperlink" Target="http://www.ds.com.ua/uploads/img/shop/product/original/12325_0.jpg" TargetMode="External"/><Relationship Id="rId6" Type="http://schemas.openxmlformats.org/officeDocument/2006/relationships/hyperlink" Target="http://img11.nnm.ru/d/7/9/a/1/2ac3d6b34391ad44fd83da669ac.jpg" TargetMode="External"/><Relationship Id="rId7" Type="http://schemas.openxmlformats.org/officeDocument/2006/relationships/hyperlink" Target="http://www.leonid74.ru/sites/default/files/imagecache/Photogallery_image_800X600/p36-2_0.jpg" TargetMode="External"/><Relationship Id="rId8" Type="http://schemas.openxmlformats.org/officeDocument/2006/relationships/hyperlink" Target="http://rosbizinfo.ru/thumbnail.php?size=700&amp;path=http://rosbizinfo.ru/company/pphoto/4d8874a86b211.jpg&amp;fid=158187&amp;md=fc8c1eee84ecfa1f77686f3ff0a21a26" TargetMode="External"/><Relationship Id="rId9" Type="http://schemas.openxmlformats.org/officeDocument/2006/relationships/hyperlink" Target="http://mywishlist.ru/pic/i/wish/orig/002/657/785.jpeg" TargetMode="External"/><Relationship Id="rId10" Type="http://schemas.openxmlformats.org/officeDocument/2006/relationships/hyperlink" Target="http://ejka.ru/blog/zagadki/319.html" TargetMode="External"/><Relationship Id="rId11" Type="http://schemas.openxmlformats.org/officeDocument/2006/relationships/hyperlink" Target="http://ejka.ru/blog/zagadki/319.html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0.png"/><Relationship Id="rId37" Type="http://schemas.openxmlformats.org/officeDocument/2006/relationships/image" Target="../media/image41.jpeg"/><Relationship Id="rId38" Type="http://schemas.openxmlformats.org/officeDocument/2006/relationships/image" Target="../media/image42.png"/><Relationship Id="rId39" Type="http://schemas.openxmlformats.org/officeDocument/2006/relationships/image" Target="../media/image43.jpeg"/><Relationship Id="rId40" Type="http://schemas.openxmlformats.org/officeDocument/2006/relationships/audio" Target="../media/type.wav"/><Relationship Id="rId41" Type="http://schemas.openxmlformats.org/officeDocument/2006/relationships/audio" Target="../media/type.wav"/><Relationship Id="rId42" Type="http://schemas.openxmlformats.org/officeDocument/2006/relationships/audio" Target="../media/type.wav"/><Relationship Id="rId43" Type="http://schemas.openxmlformats.org/officeDocument/2006/relationships/audio" Target="../media/type.wav"/><Relationship Id="rId44" Type="http://schemas.openxmlformats.org/officeDocument/2006/relationships/audio" Target="../media/type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4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45.pn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type.wav"/><Relationship Id="rId67" Type="http://schemas.openxmlformats.org/officeDocument/2006/relationships/audio" Target="../media/type.wav"/><Relationship Id="rId68" Type="http://schemas.openxmlformats.org/officeDocument/2006/relationships/audio" Target="../media/type.wav"/><Relationship Id="rId69" Type="http://schemas.openxmlformats.org/officeDocument/2006/relationships/audio" Target="../media/type.wav"/><Relationship Id="rId70" Type="http://schemas.openxmlformats.org/officeDocument/2006/relationships/audio" Target="../media/type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audio" Target="../media/click.wav"/><Relationship Id="rId7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6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47.pn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type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type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type.wav"/><Relationship Id="rId69" Type="http://schemas.openxmlformats.org/officeDocument/2006/relationships/audio" Target="../media/type.wav"/><Relationship Id="rId70" Type="http://schemas.openxmlformats.org/officeDocument/2006/relationships/audio" Target="../media/type.wav"/><Relationship Id="rId71" Type="http://schemas.openxmlformats.org/officeDocument/2006/relationships/audio" Target="../media/type.wav"/><Relationship Id="rId72" Type="http://schemas.openxmlformats.org/officeDocument/2006/relationships/audio" Target="../media/type.wav"/><Relationship Id="rId73" Type="http://schemas.openxmlformats.org/officeDocument/2006/relationships/audio" Target="../media/click.wav"/><Relationship Id="rId7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8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49.png"/><Relationship Id="rId40" Type="http://schemas.openxmlformats.org/officeDocument/2006/relationships/audio" Target="../media/type.wav"/><Relationship Id="rId41" Type="http://schemas.openxmlformats.org/officeDocument/2006/relationships/audio" Target="../media/click.wav"/><Relationship Id="rId42" Type="http://schemas.openxmlformats.org/officeDocument/2006/relationships/audio" Target="../media/type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type.wav"/><Relationship Id="rId51" Type="http://schemas.openxmlformats.org/officeDocument/2006/relationships/audio" Target="../media/type.wav"/><Relationship Id="rId52" Type="http://schemas.openxmlformats.org/officeDocument/2006/relationships/audio" Target="../media/type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type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50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51.jpe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type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type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type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type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type.wav"/><Relationship Id="rId71" Type="http://schemas.openxmlformats.org/officeDocument/2006/relationships/audio" Target="../media/type.wav"/><Relationship Id="rId72" Type="http://schemas.openxmlformats.org/officeDocument/2006/relationships/audio" Target="../media/type.wav"/><Relationship Id="rId73" Type="http://schemas.openxmlformats.org/officeDocument/2006/relationships/audio" Target="../media/type.wav"/><Relationship Id="rId74" Type="http://schemas.openxmlformats.org/officeDocument/2006/relationships/audio" Target="../media/click.wav"/><Relationship Id="rId7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52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53.pn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type.wav"/><Relationship Id="rId47" Type="http://schemas.openxmlformats.org/officeDocument/2006/relationships/audio" Target="../media/type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type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type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audio" Target="../media/click.wav"/><Relationship Id="rId7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9"/>
          <p:cNvSpPr/>
          <p:nvPr/>
        </p:nvSpPr>
        <p:spPr>
          <a:xfrm>
            <a:off x="3851280" y="549360"/>
            <a:ext cx="4753080" cy="23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терактивный кроссво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Школьны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3090600" y="3573360"/>
            <a:ext cx="54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втор:   Касатин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БОУ «Основная общеобразовательная школа №8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Каширы Моск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static.klasnaocinka.com.ua/uploads/editor/1915/179927/sitepage_48/images/1a3fd3303b143ed24a1bcd9029e36b0d.jpg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Прямоугольник 1"/>
          <p:cNvSpPr/>
          <p:nvPr/>
        </p:nvSpPr>
        <p:spPr>
          <a:xfrm>
            <a:off x="250920" y="907920"/>
            <a:ext cx="84978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esim.donanimhaber.com/upfiles/2619/A898D9BF2553483990571C2EA6B2B0A8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монито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ics.lj.ivanovo.ru/uploads8/8SxG6ZAbu8jJvWGhohqd/firefox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выплывающее окн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deti-o-detyah.ru/images/stories/2014/kak-vybrat-plastilin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пластили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ds.com.ua/uploads/img/shop/product/original/12325_0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пена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g11.nnm.ru/d/7/9/a/1/2ac3d6b34391ad44fd83da669ac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тетрад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onid74.ru/sites/default/files/imagecache/Photogallery_image_800X600/p36-2_0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арт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rosbizinfo.ru/thumbnail.php?size=700&amp;path=http://rosbizinfo.ru/company/pphoto/4d8874a86b211.jpg&amp;fid=158187&amp;md=fc8c1eee84ecfa1f77686f3ff0a21a26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глобу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ywishlist.ru/pic/i/wish/orig/002/657/785.jpe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карандаши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ejka.ru/blog/zagadki/319.htm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гад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загадку.рф/content/zagadki-pro-shkolnye-prinadlezhnosti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гад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static.klasnaocinka.com.ua/uploads/editor/1915/179927/sitepage_48/images/1a3fd3303b143ed24a1bcd9029e36b0d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учитель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Прямоугольник 59"/>
          <p:cNvSpPr/>
          <p:nvPr/>
        </p:nvSpPr>
        <p:spPr>
          <a:xfrm>
            <a:off x="2124000" y="333360"/>
            <a:ext cx="475164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Управляющая кнопка: в конец 3">
            <a:hlinkClick r:id="" action="ppaction://hlinkshowjump?jump=endshow"/>
          </p:cNvPr>
          <p:cNvSpPr/>
          <p:nvPr/>
        </p:nvSpPr>
        <p:spPr>
          <a:xfrm>
            <a:off x="8783640" y="6669000"/>
            <a:ext cx="360360" cy="189000"/>
          </a:xfrm>
          <a:custGeom>
            <a:avLst/>
            <a:gdLst>
              <a:gd name="textAreaLeft" fmla="*/ 12240 w 360360"/>
              <a:gd name="textAreaRight" fmla="*/ 348120 w 360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1147" h="21600">
                <a:moveTo>
                  <a:pt x="0" y="0"/>
                </a:moveTo>
                <a:lnTo>
                  <a:pt x="41147" y="0"/>
                </a:lnTo>
                <a:lnTo>
                  <a:pt x="41147" y="21600"/>
                </a:lnTo>
                <a:lnTo>
                  <a:pt x="0" y="21600"/>
                </a:lnTo>
                <a:close/>
              </a:path>
              <a:path fill="lightenLess" w="41147" h="21600">
                <a:moveTo>
                  <a:pt x="0" y="0"/>
                </a:moveTo>
                <a:lnTo>
                  <a:pt x="41147" y="0"/>
                </a:lnTo>
                <a:lnTo>
                  <a:pt x="39747" y="1400"/>
                </a:lnTo>
                <a:lnTo>
                  <a:pt x="1400" y="1400"/>
                </a:lnTo>
                <a:close/>
              </a:path>
              <a:path fill="darken" w="41147" h="21600">
                <a:moveTo>
                  <a:pt x="41147" y="0"/>
                </a:moveTo>
                <a:lnTo>
                  <a:pt x="41147" y="21600"/>
                </a:lnTo>
                <a:lnTo>
                  <a:pt x="39747" y="20200"/>
                </a:lnTo>
                <a:lnTo>
                  <a:pt x="39747" y="1400"/>
                </a:lnTo>
                <a:close/>
              </a:path>
              <a:path fill="darkenLess" w="41147" h="21600">
                <a:moveTo>
                  <a:pt x="411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47" y="20200"/>
                </a:lnTo>
                <a:close/>
              </a:path>
              <a:path fill="lighten" w="411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147" h="21600">
                <a:moveTo>
                  <a:pt x="24072" y="10800"/>
                </a:moveTo>
                <a:lnTo>
                  <a:pt x="13567" y="17806"/>
                </a:lnTo>
                <a:lnTo>
                  <a:pt x="13567" y="3794"/>
                </a:lnTo>
                <a:close/>
              </a:path>
              <a:path fill="darken" w="41147" h="21600">
                <a:moveTo>
                  <a:pt x="25917" y="3794"/>
                </a:moveTo>
                <a:lnTo>
                  <a:pt x="25917" y="17806"/>
                </a:lnTo>
                <a:lnTo>
                  <a:pt x="27580" y="17806"/>
                </a:lnTo>
                <a:lnTo>
                  <a:pt x="27580" y="3794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59"/>
          <p:cNvSpPr/>
          <p:nvPr/>
        </p:nvSpPr>
        <p:spPr>
          <a:xfrm>
            <a:off x="3708360" y="476280"/>
            <a:ext cx="4967280" cy="403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бята! А вы готовы к школе? Сегодня мы это проверим!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м нужно разгадать кроссвор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 возникнут затруднения, вы можете воспользоваться подсказкой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оможет  вам в работе клавиат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ход на следующий слайд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лаю успех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static.klasnaocinka.com.ua/uploads/editor/1915/179927/sitepage_48/images/1a3fd3303b143ed24a1bcd9029e36b0d.jpg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87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Рисунок3.jpg"/>
          <p:cNvPicPr/>
          <p:nvPr/>
        </p:nvPicPr>
        <p:blipFill>
          <a:blip r:embed="rId3"/>
          <a:stretch/>
        </p:blipFill>
        <p:spPr>
          <a:xfrm>
            <a:off x="5940360" y="2565360"/>
            <a:ext cx="2303640" cy="168480"/>
          </a:xfrm>
          <a:prstGeom prst="rect">
            <a:avLst/>
          </a:prstGeom>
          <a:ln w="0">
            <a:noFill/>
          </a:ln>
        </p:spPr>
      </p:pic>
      <p:grpSp>
        <p:nvGrpSpPr>
          <p:cNvPr id="47" name="Овал 5"/>
          <p:cNvGrpSpPr/>
          <p:nvPr/>
        </p:nvGrpSpPr>
        <p:grpSpPr>
          <a:xfrm>
            <a:off x="8253360" y="3608280"/>
            <a:ext cx="403200" cy="397080"/>
            <a:chOff x="8253360" y="3608280"/>
            <a:chExt cx="403200" cy="397080"/>
          </a:xfrm>
        </p:grpSpPr>
        <p:pic>
          <p:nvPicPr>
            <p:cNvPr id="48" name="Овал 5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53360" y="3608280"/>
              <a:ext cx="40320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358120" y="3687840"/>
              <a:ext cx="2048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83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84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Стрелка вниз 78"/>
          <p:cNvGrpSpPr/>
          <p:nvPr/>
        </p:nvGrpSpPr>
        <p:grpSpPr>
          <a:xfrm>
            <a:off x="4584600" y="2309760"/>
            <a:ext cx="596880" cy="372960"/>
            <a:chOff x="4584600" y="2309760"/>
            <a:chExt cx="596880" cy="372960"/>
          </a:xfrm>
        </p:grpSpPr>
        <p:pic>
          <p:nvPicPr>
            <p:cNvPr id="122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4584600" y="2309760"/>
              <a:ext cx="59688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765680" y="2349360"/>
              <a:ext cx="2412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коробку я похож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учки ты в меня кладеш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кольник, ты меня узнал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у, конечно, я -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Группа 92"/>
          <p:cNvGrpSpPr/>
          <p:nvPr/>
        </p:nvGrpSpPr>
        <p:grpSpPr>
          <a:xfrm>
            <a:off x="539640" y="260280"/>
            <a:ext cx="3816360" cy="4380120"/>
            <a:chOff x="539640" y="260280"/>
            <a:chExt cx="3816360" cy="4380120"/>
          </a:xfrm>
        </p:grpSpPr>
        <p:pic>
          <p:nvPicPr>
            <p:cNvPr id="126" name="Рисунок 87" descr="Рисунок3.jpg"/>
            <p:cNvPicPr/>
            <p:nvPr/>
          </p:nvPicPr>
          <p:blipFill>
            <a:blip r:embed="rId37"/>
            <a:stretch/>
          </p:blipFill>
          <p:spPr>
            <a:xfrm>
              <a:off x="539640" y="260280"/>
              <a:ext cx="3816360" cy="438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http://www.ds.com.ua/uploads/img/shop/product/original/12325_0.jpg"/>
            <p:cNvPicPr/>
            <p:nvPr/>
          </p:nvPicPr>
          <p:blipFill>
            <a:blip r:embed="rId38"/>
            <a:stretch/>
          </p:blipFill>
          <p:spPr>
            <a:xfrm rot="19373400">
              <a:off x="665640" y="1740960"/>
              <a:ext cx="3538800" cy="160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Рисунок 90" descr="Рисунок3.jpg"/>
          <p:cNvPicPr/>
          <p:nvPr/>
        </p:nvPicPr>
        <p:blipFill>
          <a:blip r:embed="rId39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162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163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Стрелка вниз 78"/>
          <p:cNvGrpSpPr/>
          <p:nvPr/>
        </p:nvGrpSpPr>
        <p:grpSpPr>
          <a:xfrm>
            <a:off x="5450040" y="1878120"/>
            <a:ext cx="596880" cy="371520"/>
            <a:chOff x="5450040" y="1878120"/>
            <a:chExt cx="596880" cy="371520"/>
          </a:xfrm>
        </p:grpSpPr>
        <p:pic>
          <p:nvPicPr>
            <p:cNvPr id="201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5450040" y="1878120"/>
              <a:ext cx="5968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5629320" y="1916280"/>
              <a:ext cx="243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готов к учебным стартам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ро сяду я за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205" name="Группа 79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206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" descr="http://www.leonid74.ru/sites/default/files/imagecache/Photogallery_image_800X600/p36-2_0.jpg"/>
            <p:cNvPicPr/>
            <p:nvPr/>
          </p:nvPicPr>
          <p:blipFill>
            <a:blip r:embed="rId39"/>
            <a:stretch/>
          </p:blipFill>
          <p:spPr>
            <a:xfrm>
              <a:off x="827640" y="1413000"/>
              <a:ext cx="3318480" cy="251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8" dur="indefinite" restart="never" nodeType="tmRoot">
          <p:childTnLst>
            <p:seq>
              <p:cTn id="199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241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242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" name="Стрелка вниз 78"/>
          <p:cNvGrpSpPr/>
          <p:nvPr/>
        </p:nvGrpSpPr>
        <p:grpSpPr>
          <a:xfrm>
            <a:off x="6235560" y="1517760"/>
            <a:ext cx="603360" cy="371520"/>
            <a:chOff x="6235560" y="1517760"/>
            <a:chExt cx="603360" cy="371520"/>
          </a:xfrm>
        </p:grpSpPr>
        <p:pic>
          <p:nvPicPr>
            <p:cNvPr id="280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6235560" y="1517760"/>
              <a:ext cx="6033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21320" y="1557360"/>
              <a:ext cx="243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 я в клетку, то в линейк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сать на мне сумей-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жешь и нарисова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такое я?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284" name="Группа 80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285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8" descr="http://img11.nnm.ru/d/7/9/a/1/2ac3d6b34391ad44fd83da669ac.jpg"/>
            <p:cNvPicPr/>
            <p:nvPr/>
          </p:nvPicPr>
          <p:blipFill>
            <a:blip r:embed="rId39"/>
            <a:stretch/>
          </p:blipFill>
          <p:spPr>
            <a:xfrm>
              <a:off x="1331640" y="1053000"/>
              <a:ext cx="2448360" cy="3150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8" dur="indefinite" restart="never" nodeType="tmRoot">
          <p:childTnLst>
            <p:seq>
              <p:cTn id="39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0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0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1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2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4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4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5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6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95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98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99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309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314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15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316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320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321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Стрелка вниз 78"/>
          <p:cNvGrpSpPr/>
          <p:nvPr/>
        </p:nvGrpSpPr>
        <p:grpSpPr>
          <a:xfrm>
            <a:off x="7029360" y="1878120"/>
            <a:ext cx="603360" cy="371520"/>
            <a:chOff x="7029360" y="1878120"/>
            <a:chExt cx="603360" cy="371520"/>
          </a:xfrm>
        </p:grpSpPr>
        <p:pic>
          <p:nvPicPr>
            <p:cNvPr id="359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7029360" y="1878120"/>
              <a:ext cx="6033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7213680" y="1916280"/>
              <a:ext cx="2426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ноге стоит одно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утит-вертит голово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м показывает стран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ки, горы, оке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363" name="Группа 82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364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12" descr="http://rosbizinfo.ru/thumbnail.php?size=700&amp;path=http://rosbizinfo.ru/company/pphoto/4d8874a86b211.jpg&amp;fid=158187&amp;md=fc8c1eee84ecfa1f77686f3ff0a21a26"/>
            <p:cNvPicPr/>
            <p:nvPr/>
          </p:nvPicPr>
          <p:blipFill>
            <a:blip r:embed="rId39"/>
            <a:srcRect l="16132" t="0" r="9676" b="0"/>
            <a:stretch/>
          </p:blipFill>
          <p:spPr>
            <a:xfrm>
              <a:off x="1259640" y="1053000"/>
              <a:ext cx="2448360" cy="3298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04" dur="indefinite" restart="never" nodeType="tmRoot">
          <p:childTnLst>
            <p:seq>
              <p:cTn id="60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4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73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0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1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1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712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3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3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4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4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5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6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762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7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7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8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8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79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9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800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0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81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82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83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399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400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2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7" name="Стрелка вниз 78"/>
          <p:cNvGrpSpPr/>
          <p:nvPr/>
        </p:nvGrpSpPr>
        <p:grpSpPr>
          <a:xfrm>
            <a:off x="7894800" y="725400"/>
            <a:ext cx="603000" cy="371520"/>
            <a:chOff x="7894800" y="725400"/>
            <a:chExt cx="603000" cy="371520"/>
          </a:xfrm>
        </p:grpSpPr>
        <p:pic>
          <p:nvPicPr>
            <p:cNvPr id="438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7894800" y="725400"/>
              <a:ext cx="6030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8077320" y="765000"/>
              <a:ext cx="2426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им нос везде соват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чертить, и рисова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ё раскрашиваем сам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ноцветными но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442" name="Группа 79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443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14" descr="http://mywishlist.ru/pic/i/wish/orig/002/657/785.jpeg"/>
            <p:cNvPicPr/>
            <p:nvPr/>
          </p:nvPicPr>
          <p:blipFill>
            <a:blip r:embed="rId39"/>
            <a:stretch/>
          </p:blipFill>
          <p:spPr>
            <a:xfrm>
              <a:off x="1043640" y="1053000"/>
              <a:ext cx="2592360" cy="3407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04" dur="indefinite" restart="never" nodeType="tmRoot">
          <p:childTnLst>
            <p:seq>
              <p:cTn id="805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806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22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2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3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1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832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3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1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2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4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5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5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6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9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0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7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87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8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8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9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2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3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9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0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0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1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926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936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3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0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41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4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4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51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0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61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5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6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7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974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979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3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984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8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9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992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6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2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3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4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8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9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012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1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448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451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52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53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54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455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57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61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62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63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464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465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466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467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468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469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470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471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472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73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474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75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476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477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478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479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1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Стрелка вниз 78"/>
          <p:cNvGrpSpPr/>
          <p:nvPr/>
        </p:nvGrpSpPr>
        <p:grpSpPr>
          <a:xfrm>
            <a:off x="4438800" y="2530440"/>
            <a:ext cx="377640" cy="590760"/>
            <a:chOff x="4438800" y="2530440"/>
            <a:chExt cx="377640" cy="590760"/>
          </a:xfrm>
        </p:grpSpPr>
        <p:pic>
          <p:nvPicPr>
            <p:cNvPr id="517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4438800" y="2530440"/>
              <a:ext cx="37764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 rot="16200000">
              <a:off x="4475880" y="2708640"/>
              <a:ext cx="243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9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весь мир слепить готов 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, машину, двух ко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сегодня властелин 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меня ест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521" name="Группа 80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522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2" descr="http://www.deti-o-detyah.ru/images/stories/2014/kak-vybrat-plastilin.jpg"/>
            <p:cNvPicPr/>
            <p:nvPr/>
          </p:nvPicPr>
          <p:blipFill>
            <a:blip r:embed="rId39"/>
            <a:srcRect l="11719" t="0" r="6285" b="0"/>
            <a:stretch/>
          </p:blipFill>
          <p:spPr>
            <a:xfrm>
              <a:off x="827640" y="1335960"/>
              <a:ext cx="3312360" cy="2956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16" dur="indefinite" restart="never" nodeType="tmRoot">
          <p:childTnLst>
            <p:seq>
              <p:cTn id="1017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018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6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3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3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4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044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4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049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5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064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8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9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4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5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8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08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088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9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9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098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106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0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1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1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121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2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126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2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0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131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3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136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3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4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5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146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4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0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151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5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156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5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0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1161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6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5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166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6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0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171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5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6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8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8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3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184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8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189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9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9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0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3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204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0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209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1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Прямоугольник 59"/>
          <p:cNvSpPr/>
          <p:nvPr/>
        </p:nvSpPr>
        <p:spPr>
          <a:xfrm>
            <a:off x="3708360" y="476280"/>
            <a:ext cx="4967280" cy="403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 просто молодцы!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опка            -  вы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опка            - начать снач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опка            - источ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4" descr="http://static.klasnaocinka.com.ua/uploads/editor/1915/179927/sitepage_48/images/1a3fd3303b143ed24a1bcd9029e36b0d.jpg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87760"/>
          </a:xfrm>
          <a:prstGeom prst="rect">
            <a:avLst/>
          </a:prstGeom>
          <a:ln w="0">
            <a:noFill/>
          </a:ln>
        </p:spPr>
      </p:pic>
      <p:sp>
        <p:nvSpPr>
          <p:cNvPr id="526" name="Управляющая кнопка: в конец 7">
            <a:hlinkClick r:id="" action="ppaction://hlinkshowjump?jump=endshow"/>
          </p:cNvPr>
          <p:cNvSpPr/>
          <p:nvPr/>
        </p:nvSpPr>
        <p:spPr>
          <a:xfrm>
            <a:off x="5219640" y="2637000"/>
            <a:ext cx="360360" cy="188640"/>
          </a:xfrm>
          <a:custGeom>
            <a:avLst/>
            <a:gdLst>
              <a:gd name="textAreaLeft" fmla="*/ 12240 w 360360"/>
              <a:gd name="textAreaRight" fmla="*/ 348120 w 360360"/>
              <a:gd name="textAreaTop" fmla="*/ 12240 h 188640"/>
              <a:gd name="textAreaBottom" fmla="*/ 176400 h 188640"/>
            </a:gdLst>
            <a:ahLst/>
            <a:rect l="textAreaLeft" t="textAreaTop" r="textAreaRight" b="textAreaBottom"/>
            <a:pathLst>
              <a:path w="41225" h="21600">
                <a:moveTo>
                  <a:pt x="0" y="0"/>
                </a:moveTo>
                <a:lnTo>
                  <a:pt x="41225" y="0"/>
                </a:lnTo>
                <a:lnTo>
                  <a:pt x="41225" y="21600"/>
                </a:lnTo>
                <a:lnTo>
                  <a:pt x="0" y="21600"/>
                </a:lnTo>
                <a:close/>
              </a:path>
              <a:path fill="lightenLess" w="41225" h="21600">
                <a:moveTo>
                  <a:pt x="0" y="0"/>
                </a:moveTo>
                <a:lnTo>
                  <a:pt x="41225" y="0"/>
                </a:lnTo>
                <a:lnTo>
                  <a:pt x="39825" y="1400"/>
                </a:lnTo>
                <a:lnTo>
                  <a:pt x="1400" y="1400"/>
                </a:lnTo>
                <a:close/>
              </a:path>
              <a:path fill="darken" w="41225" h="21600">
                <a:moveTo>
                  <a:pt x="41225" y="0"/>
                </a:moveTo>
                <a:lnTo>
                  <a:pt x="41225" y="21600"/>
                </a:lnTo>
                <a:lnTo>
                  <a:pt x="39825" y="20200"/>
                </a:lnTo>
                <a:lnTo>
                  <a:pt x="39825" y="1400"/>
                </a:lnTo>
                <a:close/>
              </a:path>
              <a:path fill="darkenLess" w="41225" h="21600">
                <a:moveTo>
                  <a:pt x="412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5" y="20200"/>
                </a:lnTo>
                <a:close/>
              </a:path>
              <a:path fill="lighten" w="412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5" h="21600">
                <a:moveTo>
                  <a:pt x="24111" y="10800"/>
                </a:moveTo>
                <a:lnTo>
                  <a:pt x="13606" y="17806"/>
                </a:lnTo>
                <a:lnTo>
                  <a:pt x="13606" y="3794"/>
                </a:lnTo>
                <a:close/>
              </a:path>
              <a:path fill="darken" w="41225" h="21600">
                <a:moveTo>
                  <a:pt x="25957" y="3794"/>
                </a:moveTo>
                <a:lnTo>
                  <a:pt x="25957" y="17806"/>
                </a:lnTo>
                <a:lnTo>
                  <a:pt x="27619" y="17806"/>
                </a:lnTo>
                <a:lnTo>
                  <a:pt x="27619" y="3794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Управляющая кнопка: возврат 10">
            <a:hlinkClick r:id="rId3" action="ppaction://hlinksldjump"/>
          </p:cNvPr>
          <p:cNvSpPr/>
          <p:nvPr/>
        </p:nvSpPr>
        <p:spPr>
          <a:xfrm>
            <a:off x="5219640" y="2997360"/>
            <a:ext cx="360360" cy="188640"/>
          </a:xfrm>
          <a:custGeom>
            <a:avLst/>
            <a:gdLst>
              <a:gd name="textAreaLeft" fmla="*/ 12240 w 360360"/>
              <a:gd name="textAreaRight" fmla="*/ 348120 w 360360"/>
              <a:gd name="textAreaTop" fmla="*/ 12240 h 188640"/>
              <a:gd name="textAreaBottom" fmla="*/ 176400 h 188640"/>
            </a:gdLst>
            <a:ahLst/>
            <a:rect l="textAreaLeft" t="textAreaTop" r="textAreaRight" b="textAreaBottom"/>
            <a:pathLst>
              <a:path w="41225" h="21600">
                <a:moveTo>
                  <a:pt x="0" y="0"/>
                </a:moveTo>
                <a:lnTo>
                  <a:pt x="41225" y="0"/>
                </a:lnTo>
                <a:lnTo>
                  <a:pt x="41225" y="21600"/>
                </a:lnTo>
                <a:lnTo>
                  <a:pt x="0" y="21600"/>
                </a:lnTo>
                <a:close/>
              </a:path>
              <a:path fill="lightenLess" w="41225" h="21600">
                <a:moveTo>
                  <a:pt x="0" y="0"/>
                </a:moveTo>
                <a:lnTo>
                  <a:pt x="41225" y="0"/>
                </a:lnTo>
                <a:lnTo>
                  <a:pt x="39825" y="1400"/>
                </a:lnTo>
                <a:lnTo>
                  <a:pt x="1400" y="1400"/>
                </a:lnTo>
                <a:close/>
              </a:path>
              <a:path fill="darken" w="41225" h="21600">
                <a:moveTo>
                  <a:pt x="41225" y="0"/>
                </a:moveTo>
                <a:lnTo>
                  <a:pt x="41225" y="21600"/>
                </a:lnTo>
                <a:lnTo>
                  <a:pt x="39825" y="20200"/>
                </a:lnTo>
                <a:lnTo>
                  <a:pt x="39825" y="1400"/>
                </a:lnTo>
                <a:close/>
              </a:path>
              <a:path fill="darkenLess" w="41225" h="21600">
                <a:moveTo>
                  <a:pt x="412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5" y="20200"/>
                </a:lnTo>
                <a:close/>
              </a:path>
              <a:path fill="lighten" w="412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5" h="21600">
                <a:moveTo>
                  <a:pt x="13606" y="7493"/>
                </a:moveTo>
                <a:lnTo>
                  <a:pt x="17114" y="7493"/>
                </a:lnTo>
                <a:lnTo>
                  <a:pt x="17114" y="12828"/>
                </a:lnTo>
                <a:cubicBezTo>
                  <a:pt x="17114" y="13751"/>
                  <a:pt x="17914" y="14482"/>
                  <a:pt x="18950" y="14482"/>
                </a:cubicBezTo>
                <a:lnTo>
                  <a:pt x="20613" y="14482"/>
                </a:lnTo>
                <a:cubicBezTo>
                  <a:pt x="21648" y="14482"/>
                  <a:pt x="22449" y="13751"/>
                  <a:pt x="22449" y="12828"/>
                </a:cubicBezTo>
                <a:lnTo>
                  <a:pt x="22449" y="7493"/>
                </a:lnTo>
                <a:lnTo>
                  <a:pt x="20613" y="7493"/>
                </a:lnTo>
                <a:lnTo>
                  <a:pt x="24120" y="3985"/>
                </a:lnTo>
                <a:lnTo>
                  <a:pt x="27793" y="7493"/>
                </a:lnTo>
                <a:lnTo>
                  <a:pt x="25957" y="7493"/>
                </a:lnTo>
                <a:lnTo>
                  <a:pt x="25957" y="12828"/>
                </a:lnTo>
                <a:cubicBezTo>
                  <a:pt x="25957" y="15596"/>
                  <a:pt x="23380" y="18155"/>
                  <a:pt x="20613" y="18155"/>
                </a:cubicBezTo>
                <a:lnTo>
                  <a:pt x="18950" y="18155"/>
                </a:lnTo>
                <a:cubicBezTo>
                  <a:pt x="16182" y="18155"/>
                  <a:pt x="13606" y="15596"/>
                  <a:pt x="13606" y="12828"/>
                </a:cubicBez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Управляющая кнопка: документ 11">
            <a:hlinkClick r:id="" action="ppaction://hlinkshowjump?jump=lastslide"/>
          </p:cNvPr>
          <p:cNvSpPr/>
          <p:nvPr/>
        </p:nvSpPr>
        <p:spPr>
          <a:xfrm>
            <a:off x="5219640" y="3429000"/>
            <a:ext cx="395280" cy="189000"/>
          </a:xfrm>
          <a:custGeom>
            <a:avLst/>
            <a:gdLst>
              <a:gd name="textAreaLeft" fmla="*/ 12240 w 395280"/>
              <a:gd name="textAreaRight" fmla="*/ 383040 w 395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5130" h="21600">
                <a:moveTo>
                  <a:pt x="0" y="0"/>
                </a:moveTo>
                <a:lnTo>
                  <a:pt x="45130" y="0"/>
                </a:lnTo>
                <a:lnTo>
                  <a:pt x="45130" y="21600"/>
                </a:lnTo>
                <a:lnTo>
                  <a:pt x="0" y="21600"/>
                </a:lnTo>
                <a:close/>
              </a:path>
              <a:path fill="lightenLess" w="45130" h="21600">
                <a:moveTo>
                  <a:pt x="0" y="0"/>
                </a:moveTo>
                <a:lnTo>
                  <a:pt x="45130" y="0"/>
                </a:lnTo>
                <a:lnTo>
                  <a:pt x="43730" y="1400"/>
                </a:lnTo>
                <a:lnTo>
                  <a:pt x="1400" y="1400"/>
                </a:lnTo>
                <a:close/>
              </a:path>
              <a:path fill="darken" w="45130" h="21600">
                <a:moveTo>
                  <a:pt x="45130" y="0"/>
                </a:moveTo>
                <a:lnTo>
                  <a:pt x="45130" y="21600"/>
                </a:lnTo>
                <a:lnTo>
                  <a:pt x="43730" y="20200"/>
                </a:lnTo>
                <a:lnTo>
                  <a:pt x="43730" y="1400"/>
                </a:lnTo>
                <a:close/>
              </a:path>
              <a:path fill="darkenLess" w="45130" h="21600">
                <a:moveTo>
                  <a:pt x="45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30" y="20200"/>
                </a:lnTo>
                <a:close/>
              </a:path>
              <a:path fill="lighten" w="45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5130" h="21600">
                <a:moveTo>
                  <a:pt x="17038" y="3985"/>
                </a:moveTo>
                <a:lnTo>
                  <a:pt x="24036" y="3985"/>
                </a:lnTo>
                <a:lnTo>
                  <a:pt x="28092" y="7484"/>
                </a:lnTo>
                <a:lnTo>
                  <a:pt x="28092" y="17615"/>
                </a:lnTo>
                <a:lnTo>
                  <a:pt x="17038" y="17615"/>
                </a:lnTo>
                <a:close/>
              </a:path>
              <a:path fill="darken" w="45130" h="21600">
                <a:moveTo>
                  <a:pt x="24036" y="3985"/>
                </a:moveTo>
                <a:lnTo>
                  <a:pt x="28092" y="7484"/>
                </a:lnTo>
                <a:lnTo>
                  <a:pt x="24036" y="7484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08:53:35Z</dcterms:created>
  <dc:creator>HP</dc:creator>
  <dc:description/>
  <dc:language>en-US</dc:language>
  <cp:lastModifiedBy>HP</cp:lastModifiedBy>
  <dcterms:modified xsi:type="dcterms:W3CDTF">2015-01-06T06:54:43Z</dcterms:modified>
  <cp:revision>41</cp:revision>
  <dc:subject/>
  <dc:title>Слайд 1</dc:title>
</cp:coreProperties>
</file>